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7DA-5D9E-440F-B613-A6024FD9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0A6-F0A0-45B8-A6C5-8F889CA5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30B-7B08-416B-9066-E634F4B7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AD9-8D35-4AAC-B689-2798197A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B63-3D98-41E9-909D-CE205236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7E2-301B-48DD-A1FF-1D4F372D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61E-0195-4966-A04F-002495BD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0FD-602A-484A-ADB8-083052A8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A04-966D-4E1B-AA8A-D1CA5704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4DC-E16E-4257-9B3B-FDF46064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453-B335-4372-9FE8-95A3A2AC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E48-41F4-44D3-B09C-F1925359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9C32-3A3B-4F22-9931-AC34F43C6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2171880" y="2286000"/>
            <a:ext cx="480060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hineesmeisjegewoon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1143000" cy="189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etterslogo7" descr=""/>
          <p:cNvPicPr/>
          <p:nvPr/>
        </p:nvPicPr>
        <p:blipFill>
          <a:blip r:embed="rId3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10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11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12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13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3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14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15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16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17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7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18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8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19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2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20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21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22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2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23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24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4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3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4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5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6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7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8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ndleiding door Ch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9" descr=""/>
          <p:cNvPicPr/>
          <p:nvPr/>
        </p:nvPicPr>
        <p:blipFill>
          <a:blip r:embed="rId1"/>
          <a:stretch/>
        </p:blipFill>
        <p:spPr>
          <a:xfrm>
            <a:off x="2171880" y="217188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315200" y="5791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/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letterslogo7" descr=""/>
          <p:cNvPicPr/>
          <p:nvPr/>
        </p:nvPicPr>
        <p:blipFill>
          <a:blip r:embed="rId2"/>
          <a:stretch/>
        </p:blipFill>
        <p:spPr>
          <a:xfrm>
            <a:off x="5562720" y="5791320"/>
            <a:ext cx="1714320" cy="342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9:04:45Z</dcterms:created>
  <dc:creator>Geven</dc:creator>
  <dc:description/>
  <dc:language>en-US</dc:language>
  <cp:lastModifiedBy>Geven</cp:lastModifiedBy>
  <dcterms:modified xsi:type="dcterms:W3CDTF">2000-08-30T19:19:38Z</dcterms:modified>
  <cp:revision>2</cp:revision>
  <dc:subject/>
  <dc:title>Rondleiding door China</dc:title>
</cp:coreProperties>
</file>